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6E33-C2F5-4E30-B451-D7341F77C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D6C4-2081-4DF7-8CA7-BDB2D3882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E586-924C-4401-BE4A-22176EF69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5DD8-942F-4AD0-94C9-0B95AE655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556BB-9B50-4311-8AA0-FBCB3D96D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7EFE8-1DF5-4E4F-87DA-55FBB6BB7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81765-2388-4A66-852E-DE049937C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69E79-DCBC-457C-9200-40BBA4913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BE54D-160B-45FC-A918-2DE7734C0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4E200-B188-4764-B962-306EFE6FE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9D297-F292-4B30-B4DF-E96CDE76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9A70-746C-4A02-AFEA-074AD4528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49339-D1FC-4E55-9A36-1B2BA67C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0CAB6-D674-4ECE-98C4-E8C8A2A7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05CBD-C994-45FC-B27F-87C3E1396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A77D8-38B5-4786-82C6-3534758FF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8788F-5268-4090-926B-D5F503917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8786-86EE-4677-8D8C-61FC12F22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A512-C75D-49B1-99A4-26872C003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3B2D-18F4-4AEB-8395-2D77DED7F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9923-6B52-46D2-9DA1-E2585A900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D76B-2FA7-4920-9F08-B7C4F9C9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1670-4703-4833-AFB0-78A9CDA5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5EF1-5CF7-4D07-BC7F-9E1EB68B0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98D7D-E3D5-4639-A2DA-2CD4D214AAAA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ategic directions to improve health care financing in the Reg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B1066-23FC-4E9C-B917-2F0212AF387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Flowchart: Document 6"/>
          <p:cNvGrpSpPr/>
          <p:nvPr/>
        </p:nvGrpSpPr>
        <p:grpSpPr>
          <a:xfrm>
            <a:off x="-6480" y="566640"/>
            <a:ext cx="9156960" cy="5919840"/>
            <a:chOff x="-6480" y="566640"/>
            <a:chExt cx="9156960" cy="5919840"/>
          </a:xfrm>
        </p:grpSpPr>
        <p:pic>
          <p:nvPicPr>
            <p:cNvPr id="42" name="Flowchart: Document 6" descr=""/>
            <p:cNvPicPr/>
            <p:nvPr/>
          </p:nvPicPr>
          <p:blipFill>
            <a:blip r:embed="rId2"/>
            <a:stretch/>
          </p:blipFill>
          <p:spPr>
            <a:xfrm>
              <a:off x="-6480" y="566640"/>
              <a:ext cx="9156960" cy="591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 rot="10800000">
              <a:off x="0" y="914040"/>
              <a:ext cx="9144000" cy="556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" name="Flowchart: Document 7"/>
          <p:cNvGrpSpPr/>
          <p:nvPr/>
        </p:nvGrpSpPr>
        <p:grpSpPr>
          <a:xfrm>
            <a:off x="-6480" y="981000"/>
            <a:ext cx="9156960" cy="4846680"/>
            <a:chOff x="-6480" y="981000"/>
            <a:chExt cx="9156960" cy="4846680"/>
          </a:xfrm>
        </p:grpSpPr>
        <p:pic>
          <p:nvPicPr>
            <p:cNvPr id="45" name="Flowchart: Document 7" descr=""/>
            <p:cNvPicPr/>
            <p:nvPr/>
          </p:nvPicPr>
          <p:blipFill>
            <a:blip r:embed="rId3"/>
            <a:stretch/>
          </p:blipFill>
          <p:spPr>
            <a:xfrm>
              <a:off x="-6480" y="981000"/>
              <a:ext cx="9156960" cy="484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 rot="10800000">
              <a:off x="0" y="1341000"/>
              <a:ext cx="9144000" cy="447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7" name="Picture 7" descr="EMRM-042"/>
          <p:cNvPicPr/>
          <p:nvPr/>
        </p:nvPicPr>
        <p:blipFill>
          <a:blip r:embed="rId4"/>
          <a:stretch/>
        </p:blipFill>
        <p:spPr>
          <a:xfrm>
            <a:off x="7162920" y="5835600"/>
            <a:ext cx="1981080" cy="10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8" name="Line 9"/>
          <p:cNvSpPr/>
          <p:nvPr/>
        </p:nvSpPr>
        <p:spPr>
          <a:xfrm>
            <a:off x="2209680" y="6324480"/>
            <a:ext cx="4953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10" descr="LogoE"/>
          <p:cNvPicPr/>
          <p:nvPr/>
        </p:nvPicPr>
        <p:blipFill>
          <a:blip r:embed="rId5">
            <a:lum bright="100000"/>
          </a:blip>
          <a:stretch/>
        </p:blipFill>
        <p:spPr>
          <a:xfrm>
            <a:off x="0" y="5927760"/>
            <a:ext cx="2209680" cy="853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95DDA-E85A-4809-A1FC-FBEFEB0F3354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ategic directions to improve health care financing in the Reg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C50F9-0AF0-4CDE-8AEA-D4F9E6A166B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itle 1"/>
          <p:cNvSpPr/>
          <p:nvPr/>
        </p:nvSpPr>
        <p:spPr>
          <a:xfrm>
            <a:off x="304920" y="1143000"/>
            <a:ext cx="85341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apacity Building Worksho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Introduction to Economic Evaluation with Special Application to Non-Communicable Diseases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228600" y="441972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WHO – EMR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airo, Egypt, 16-18 December 201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orkshop Objectiv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urpos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of the Workshop is to build national research capacities in the area of Economic Evaluation of health programs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y the end of the workshop, you will be able to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00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the fundamental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purpose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economic evaluatio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00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tinguish the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types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Economic Evaluatio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00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 able to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use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conomic Evaluation results to aid priority se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0" y="914400"/>
          <a:ext cx="9144000" cy="6188040"/>
        </p:xfrm>
        <a:graphic>
          <a:graphicData uri="http://schemas.openxmlformats.org/drawingml/2006/table">
            <a:tbl>
              <a:tblPr/>
              <a:tblGrid>
                <a:gridCol w="1392120"/>
                <a:gridCol w="3484800"/>
                <a:gridCol w="2133360"/>
                <a:gridCol w="93960"/>
                <a:gridCol w="2039760"/>
              </a:tblGrid>
              <a:tr h="560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Tim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Day 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Day 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Day 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19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8:30-10: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General introduction to Health Economics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CE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CB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1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0:30-11: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ffee Break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69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1:00-13: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Introduction to Economic Evaluation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Exercis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on CEA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Exercis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on CBA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0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3:00-14: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unch Break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8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4:00-15: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Cost Analysis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CU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Plenary Discussion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&amp;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Closur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5:30-16: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ffee Break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5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6:00-17: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Exercise on Cost Analysis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Exercis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on CUA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4" name="Rectangle 7"/>
          <p:cNvSpPr/>
          <p:nvPr/>
        </p:nvSpPr>
        <p:spPr>
          <a:xfrm>
            <a:off x="0" y="914400"/>
            <a:ext cx="9144000" cy="60199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gend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5T06:14:48Z</dcterms:created>
  <dc:creator>awahabs</dc:creator>
  <dc:description/>
  <dc:language>en-US</dc:language>
  <cp:lastModifiedBy>matariaa</cp:lastModifiedBy>
  <dcterms:modified xsi:type="dcterms:W3CDTF">2012-12-16T05:57:58Z</dcterms:modified>
  <cp:revision>535</cp:revision>
  <dc:subject/>
  <dc:title>Slide 1</dc:title>
</cp:coreProperties>
</file>